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8C15-DDA0-437A-9AF4-D462D1673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AA6A-9970-4EC2-957A-B76CF9B9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6E9D-9900-46D8-8D35-15469DF5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1FE2-B7CB-4624-86E6-E7520CEA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519D-9311-4EB0-AC97-F2648C69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4DAB-D3E9-4BFE-BBFF-78279994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731F-29E5-416A-A590-0C26C0CA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0774-579E-4187-9589-DC7714E0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6CFF-6C98-4A0E-835A-91FC7842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CEF4-5CC0-422F-A311-B5677881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5660-C56F-4EF7-9337-3A247DCA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B6EC-F9AF-4989-95C4-A1F65141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FE76-6812-46A7-92B9-778C5724A776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406520" y="0"/>
            <a:ext cx="7737480" cy="6632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0" y="3681360"/>
            <a:ext cx="74772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503280" y="584280"/>
            <a:ext cx="765504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431640" y="800280"/>
            <a:ext cx="84553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324000" y="225360"/>
            <a:ext cx="842004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2T13:31:22Z</dcterms:created>
  <dc:creator>tade</dc:creator>
  <dc:description/>
  <dc:language>en-US</dc:language>
  <cp:lastModifiedBy>tade</cp:lastModifiedBy>
  <dcterms:modified xsi:type="dcterms:W3CDTF">2018-11-09T14:14:06Z</dcterms:modified>
  <cp:revision>14</cp:revision>
  <dc:subject/>
  <dc:title>Slide 1</dc:title>
</cp:coreProperties>
</file>