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1BC1-0C69-449D-800B-6B8D607A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ACB-6F46-4A37-A17A-8A5A8CCF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CF6-6D0A-4E4C-9E51-1BB72664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456-1D93-4C57-86A2-C3974D86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483-587A-4D6D-BF5F-5E0E89D7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6B5-7F59-4140-94C2-B6AD3DED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D5F-6FD2-4CDE-9502-E99E053C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9B16-EB84-43CF-8A15-AB157ADA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440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B06-1248-41B8-9214-1C85D993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182-33FD-40A6-A16B-68B32019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350-1F87-4660-B36D-89318E1B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3A4-3A11-4E5C-BCB7-F7B7EC41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823FE-1620-4028-8CA0-D116D4775508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60720" y="485928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720" y="485928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5219640"/>
            <a:ext cx="1079640" cy="17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720" y="485928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5219640"/>
            <a:ext cx="1079640" cy="17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236760" y="3597120"/>
            <a:ext cx="185760" cy="162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600360" y="4317480"/>
            <a:ext cx="900360" cy="10861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60720" y="32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60720" y="485928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5219640"/>
            <a:ext cx="1079640" cy="17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236760" y="3597120"/>
            <a:ext cx="185760" cy="162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600360" y="4317480"/>
            <a:ext cx="900360" cy="10861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60720" y="32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0000" y="4140360"/>
            <a:ext cx="107928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079640" y="1617840"/>
            <a:ext cx="179280" cy="54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60720" y="485928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79640" y="5040360"/>
            <a:ext cx="360360" cy="360360"/>
          </a:xfrm>
          <a:prstGeom prst="ellipse">
            <a:avLst/>
          </a:prstGeom>
          <a:noFill/>
          <a:ln w="36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0" y="5219640"/>
            <a:ext cx="1079640" cy="17928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3236760" y="3597120"/>
            <a:ext cx="185760" cy="16257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600360" y="4317480"/>
            <a:ext cx="900360" cy="108612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60720" y="32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0000" y="4140360"/>
            <a:ext cx="1079280" cy="53964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40560" y="41544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  <a:ea typeface="Microsoft YaHei"/>
              </a:rPr>
              <a:t>7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