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97E-000C-4C58-8760-58136D25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7240"/>
            <a:ext cx="874260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F75-5839-42B0-A843-A7440140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F54-83CC-498F-8F5E-4922C9AD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1240" y="151560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200" y="151560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724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1240" y="374724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200" y="374724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802-5F8C-4241-8E11-CA56A30E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26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CCB1-32B0-47A0-948B-3FAE5E87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0AD-945F-45C1-9E2D-29B5CE20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141-E5CB-43C3-99CD-C7799164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24A7-7DD8-42E1-85C1-268BF13C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426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6F41-A37E-40D9-B257-EECB86F4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55AB-BFA0-41B5-B5AB-93537CAE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01DA-9029-4B73-8BCB-D655BD69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7240"/>
            <a:ext cx="874260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173-04A4-454F-B930-64F2DCFA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26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4000"/>
            <a:ext cx="22590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6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90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35744-C244-40D8-85D4-CB3B58A2213E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3060720"/>
            <a:ext cx="1260360" cy="161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60720"/>
            <a:ext cx="1260360" cy="161928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59280" y="4154400"/>
            <a:ext cx="56052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  <a:ea typeface="Microsoft YaHei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