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720263" cy="64801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4CD6-7481-4803-B2AB-383F496DF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3936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93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5640" y="3745800"/>
            <a:ext cx="87393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75AA-99CE-4769-B964-3C8A2C736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3936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45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3680" y="1515960"/>
            <a:ext cx="42645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45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3680" y="3745800"/>
            <a:ext cx="42645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B9F4-CEE1-4B55-BEF5-78EBD58A8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3936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37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40520" y="1515960"/>
            <a:ext cx="28137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5400" y="1515960"/>
            <a:ext cx="28137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5640" y="3745800"/>
            <a:ext cx="28137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40520" y="3745800"/>
            <a:ext cx="28137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5400" y="3745800"/>
            <a:ext cx="28137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7878-7F4C-43D2-B00E-DB877BEDB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3936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3936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B102-2EA7-45B6-9221-2B477BC19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3936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936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5977-BB1F-4C30-98C1-07031A82F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3936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456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3680" y="1515960"/>
            <a:ext cx="426456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0186-762E-44D2-BEB3-F42AE75B6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3936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DB77-B3DD-4BAF-8410-7D6C0324A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5640" y="258480"/>
            <a:ext cx="8739360" cy="49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1D8A-F800-4547-AB5B-64F381E1E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3936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45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3680" y="1515960"/>
            <a:ext cx="426456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45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F3BB-EAC1-4C84-972A-97ADBD47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3936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456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3680" y="1515960"/>
            <a:ext cx="42645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3680" y="3745800"/>
            <a:ext cx="42645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9532-A808-4815-BE18-A2CB3696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3936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45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3680" y="1515960"/>
            <a:ext cx="42645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87393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032D-F997-4204-8232-1C39294E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3936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5640" y="1515960"/>
            <a:ext cx="873936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85280" y="5903640"/>
            <a:ext cx="2256120" cy="43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23880" y="5903640"/>
            <a:ext cx="3073320" cy="43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69240" y="5903640"/>
            <a:ext cx="2255760" cy="43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7CC8C6-D27C-493E-BB83-FB7C4A9443BB}" type="slidenum">
              <a:rPr b="0" lang="hu-H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079640" y="1795320"/>
            <a:ext cx="179280" cy="37008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1079640" y="1795320"/>
            <a:ext cx="179280" cy="37008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1440000" y="1074600"/>
            <a:ext cx="179280" cy="37008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40000" y="90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60360" y="3600360"/>
            <a:ext cx="90036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79640" y="378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260360" y="3600360"/>
            <a:ext cx="90036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979640" y="378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160720" y="4140360"/>
            <a:ext cx="1440" cy="5396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979640" y="449892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60720" y="3060720"/>
            <a:ext cx="17928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6072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 flipV="1">
            <a:off x="1798200" y="1079640"/>
            <a:ext cx="903240" cy="16207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41440" y="90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060720" y="3060720"/>
            <a:ext cx="17928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06072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419640" y="3600360"/>
            <a:ext cx="1079280" cy="5400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319640" y="395928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1798200" y="1079640"/>
            <a:ext cx="903240" cy="16207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441440" y="90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00720" y="3060720"/>
            <a:ext cx="1260360" cy="161928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1798200" y="1079640"/>
            <a:ext cx="903240" cy="16207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441440" y="90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500720" y="3060720"/>
            <a:ext cx="1260360" cy="1619280"/>
          </a:xfrm>
          <a:prstGeom prst="line">
            <a:avLst/>
          </a:prstGeom>
          <a:ln w="7200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740560" y="4154400"/>
            <a:ext cx="56016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  <a:ea typeface="Microsoft YaHei"/>
              </a:rPr>
              <a:t>4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079640" y="1612800"/>
            <a:ext cx="179280" cy="5558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79640" y="2525760"/>
            <a:ext cx="1440" cy="89388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79640" y="2525760"/>
            <a:ext cx="1440" cy="89388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260360" y="3605040"/>
            <a:ext cx="900360" cy="3542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79640" y="378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60360" y="2346480"/>
            <a:ext cx="1440000" cy="35388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00360" y="251928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60360" y="2346480"/>
            <a:ext cx="1440000" cy="35388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700360" y="251928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879640" y="2886120"/>
            <a:ext cx="360360" cy="5349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5928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1798200" y="1079640"/>
            <a:ext cx="903240" cy="16207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41440" y="90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0T08:04:58Z</dcterms:created>
  <dc:creator>tade </dc:creator>
  <dc:description/>
  <dc:language>en-US</dc:language>
  <cp:lastModifiedBy/>
  <cp:revision>1</cp:revision>
  <dc:subject/>
  <dc:title/>
</cp:coreProperties>
</file>