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964-1DF7-4AAC-801A-BDE3FA01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D6B-9F2F-408F-BABB-E6B960F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443-B9B6-41C0-BCAA-F142E295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3CD-C108-4DAA-A7E5-B6F40BB6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AEB-394C-421D-9B5B-703ED25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630-64B4-47F6-A391-3907450E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6B0-9F78-4328-8263-B8018EF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01B-0D41-46B7-AB20-BCD1C18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D48-A744-4C34-AF3A-2AF1FF8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AC4-EDF5-448C-9656-185CE56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DD5-3ED0-4917-A665-DC67957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EAB-A62C-4033-A115-8F86C94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DF544-5BA3-47DC-A607-DE52637977F3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9280" y="216072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107964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2340000"/>
            <a:ext cx="5601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1800360"/>
            <a:ext cx="56052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3060720"/>
            <a:ext cx="560160" cy="358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40" y="1079640"/>
            <a:ext cx="561960" cy="31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1080" y="2160720"/>
            <a:ext cx="560160" cy="31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060720"/>
            <a:ext cx="1260360" cy="161928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40560" y="418464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720" y="1081080"/>
            <a:ext cx="560160" cy="3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