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5EB-C97D-460D-9FA5-D3AE772A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482-6742-4D0D-85F7-8D668E9B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191-8062-4038-A2FE-CBB35163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9EB-76FF-4617-B3EA-D8231C4A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690-7484-482A-BE0F-A17E538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F5A-6F45-4661-95E4-4811BBF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074-A501-4464-8F10-0C4AED3E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C84-67ED-40E3-B9EC-36FA4B0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97D-0DE7-41FD-8364-4F38298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4F8-4717-4AEE-98AD-43778125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F65-28FE-4822-9CC9-F6A7526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362-8D1A-41BE-B728-0BD8B29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3872C-0442-460E-BA4B-3D21CD6E14EB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675320" y="4135320"/>
            <a:ext cx="909360" cy="54936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94240" y="5040360"/>
            <a:ext cx="370080" cy="53964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0360" y="4495320"/>
            <a:ext cx="720720" cy="189000"/>
          </a:xfrm>
          <a:prstGeom prst="line">
            <a:avLst/>
          </a:prstGeom>
          <a:ln w="72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314960" y="2874600"/>
            <a:ext cx="1449360" cy="1809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54007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72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3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306072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0560" y="4140360"/>
            <a:ext cx="560160" cy="344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144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