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710-43FA-4C8E-8FF7-F3FED82F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AB5-0613-4228-BDE8-C1638F18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271-4464-498E-8762-85ACD10E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151560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743640"/>
            <a:ext cx="281268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581-2BF0-4C68-A5BB-4E285A4D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E92-4402-4A2F-820D-A2DDFC8D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E70-CC4D-4BFA-84BF-D5ED1C5C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9A3-237A-40FB-9971-D25BDFB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79B-C008-48B2-B9A5-B480D90E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61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106-64AC-4273-92BF-A513753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CEC-242C-4CC2-A639-78C7C52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1880" y="374364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0FC-60E1-4757-9A47-251D533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1880" y="1515600"/>
            <a:ext cx="4263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3640"/>
            <a:ext cx="8736120" cy="203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9E9-3572-416D-81D0-F1F2922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6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3612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28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0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25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66237-0FF8-489D-92CD-224FFD9AE3A9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079640" y="1609560"/>
            <a:ext cx="179280" cy="5623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0360" y="3598920"/>
            <a:ext cx="90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378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0000" y="1069560"/>
            <a:ext cx="179280" cy="3826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60720" y="4140360"/>
            <a:ext cx="1440" cy="5396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449892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0" y="3780000"/>
            <a:ext cx="1796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40560" y="4154400"/>
            <a:ext cx="560160" cy="3445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  <a:ea typeface="Microsoft YaHe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793880" y="1074240"/>
            <a:ext cx="912960" cy="16304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0720" y="2879640"/>
            <a:ext cx="1079640" cy="180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3059280"/>
            <a:ext cx="1260360" cy="1620720"/>
          </a:xfrm>
          <a:prstGeom prst="line">
            <a:avLst/>
          </a:prstGeom>
          <a:ln w="720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