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611-E6ED-4392-8D06-E95F40C6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824-99DB-4E3F-92A2-7C4A1ACA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BE8-8381-4A08-90CC-A6253816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052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5400" y="151596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052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5400" y="3745800"/>
            <a:ext cx="28137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BA9-0E30-46AB-85D1-D5201BA9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479-04B9-4844-B0D9-C064AE6B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CF5-328E-4586-BC27-1917FC62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D39-FBBC-4694-8CC5-FC3B9C53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2CD-C3E0-46E8-B2F9-098F055A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480"/>
            <a:ext cx="873936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FC5-B622-4DDF-A69C-274437D0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05F-698C-4123-8D51-181C34EB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3680" y="374580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89C-9069-45AF-9B3F-0C83E5F8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3680" y="1515960"/>
            <a:ext cx="42645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936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5F4-7058-43CB-A3FF-EA6AE1EF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9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93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3640"/>
            <a:ext cx="22561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3640"/>
            <a:ext cx="30733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5576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D9AB8-9347-47D3-B6FE-543A56DAF867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00720" y="2384280"/>
            <a:ext cx="560160" cy="3160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0" y="3780000"/>
            <a:ext cx="36036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19640" y="3780000"/>
            <a:ext cx="107928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59280" y="3419640"/>
            <a:ext cx="560520" cy="855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00720" y="2384280"/>
            <a:ext cx="560160" cy="3160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0" y="3780000"/>
            <a:ext cx="36036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19640" y="3780000"/>
            <a:ext cx="107928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9280" y="3419640"/>
            <a:ext cx="560520" cy="855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80000" y="4319640"/>
            <a:ext cx="90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59280" y="3780000"/>
            <a:ext cx="560520" cy="855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0360" y="130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19640" y="3600360"/>
            <a:ext cx="1079280" cy="5400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3465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0" y="3780000"/>
            <a:ext cx="17964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0000" y="418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98920" y="3059280"/>
            <a:ext cx="12621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364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0720" y="184464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8920" y="3059280"/>
            <a:ext cx="1262160" cy="16207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59280" y="364500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0720" y="2384280"/>
            <a:ext cx="560160" cy="3160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b80047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00000" y="216072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4680000"/>
            <a:ext cx="360360" cy="360360"/>
          </a:xfrm>
          <a:prstGeom prst="ellipse">
            <a:avLst/>
          </a:prstGeom>
          <a:noFill/>
          <a:ln w="36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079640" y="1612800"/>
            <a:ext cx="179280" cy="55584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79640" y="144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2340000"/>
            <a:ext cx="144000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0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79640" y="2519280"/>
            <a:ext cx="1440" cy="90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34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9840" y="130500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0000" y="404640"/>
            <a:ext cx="5619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  </a:t>
            </a: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00360" y="1665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9840" y="306072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4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79640" y="3059280"/>
            <a:ext cx="360360" cy="360360"/>
          </a:xfrm>
          <a:prstGeom prst="line">
            <a:avLst/>
          </a:prstGeom>
          <a:ln w="72000">
            <a:solidFill>
              <a:srgbClr val="004a4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60720" y="2879640"/>
            <a:ext cx="1260360" cy="180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341964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40360" y="2700360"/>
            <a:ext cx="360360" cy="360360"/>
          </a:xfrm>
          <a:prstGeom prst="ellipse">
            <a:avLst/>
          </a:prstGeom>
          <a:solidFill>
            <a:srgbClr val="008080"/>
          </a:solidFill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2384280"/>
            <a:ext cx="560160" cy="3160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19640" y="3465360"/>
            <a:ext cx="560160" cy="314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00360" y="5040360"/>
            <a:ext cx="56052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0" y="3780000"/>
            <a:ext cx="360360" cy="161892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3780000"/>
            <a:ext cx="1079280" cy="3603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3419640"/>
            <a:ext cx="560520" cy="855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521964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19640" y="395928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1797120" y="1077480"/>
            <a:ext cx="906480" cy="1623960"/>
          </a:xfrm>
          <a:prstGeom prst="line">
            <a:avLst/>
          </a:prstGeom>
          <a:ln w="7200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60720" y="360360"/>
            <a:ext cx="560160" cy="855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300dc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 u="sng">
                <a:solidFill>
                  <a:srgbClr val="2300dc"/>
                </a:solidFill>
                <a:uFillTx/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280099"/>
                </a:solidFill>
                <a:latin typeface="Arial"/>
              </a:rPr>
              <a:t>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0000" y="900000"/>
            <a:ext cx="360360" cy="360360"/>
          </a:xfrm>
          <a:prstGeom prst="ellipse">
            <a:avLst/>
          </a:prstGeom>
          <a:noFill/>
          <a:ln w="360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8:04:58Z</dcterms:created>
  <dc:creator>tade </dc:creator>
  <dc:description/>
  <dc:language>en-US</dc:language>
  <cp:lastModifiedBy/>
  <cp:revision>1</cp:revision>
  <dc:subject/>
  <dc:title/>
</cp:coreProperties>
</file>