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E8D-381B-4C7D-93EE-53ACA4E1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73F-3BE9-4D22-9668-4F2723D8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611-1F05-4F82-9916-302418C5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52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52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43D-A11B-46EE-9E38-9BDFF61F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292-4064-4A85-A5E9-30871E55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5D7-02B5-47F5-9FB9-1E342970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7B8-27EC-4ACE-8F40-FF62BF7D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562-F34C-4AFC-BD4A-4CF13D15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936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311-5494-49B0-836F-CCD0E789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204-78BC-4D90-A0E3-302677BD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CA0-F3EB-4A2F-BED7-BB818D2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BA9-848B-420D-BEDC-3A34B9DF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4A714-BDE0-4461-B334-60F5D107B29F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80000" y="4314960"/>
            <a:ext cx="720720" cy="90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334960" y="5216040"/>
            <a:ext cx="1089000" cy="189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58920" y="4859280"/>
            <a:ext cx="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59280" y="4319640"/>
            <a:ext cx="72072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0000" y="41544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00360" y="1258920"/>
            <a:ext cx="1079280" cy="14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80000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440000" y="1076400"/>
            <a:ext cx="179280" cy="3744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3598920"/>
            <a:ext cx="9018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38560" y="3780000"/>
            <a:ext cx="18108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9892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