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870-F803-4DE7-B484-2007D33E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82B-A720-4E99-A3A5-0D11216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F2C-5C8B-47BA-8412-4E6476D4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0" y="151560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200" y="3747240"/>
            <a:ext cx="281484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899-50C9-43DB-98D0-DEB61FAF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D60-4EFA-4E78-949E-A3D595BA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D97-68FE-4DB6-BC92-4D2DA3B2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6E7-C706-4EC7-A453-DD477EF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8B9-ABEF-4972-8BD2-A7EAF1D3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260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B03-C181-4FAD-8580-8004000D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219-9350-4BE1-9B89-32664E0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74724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70A-4D72-44F5-85C1-B0CDC687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15600"/>
            <a:ext cx="426636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240"/>
            <a:ext cx="8742600" cy="203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B79-16B8-488A-94F9-4DD4EEEC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2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872AB-76D7-481F-9606-895483761432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79640" y="4140360"/>
            <a:ext cx="357120" cy="357120"/>
            <a:chOff x="1979640" y="4140360"/>
            <a:chExt cx="357120" cy="357120"/>
          </a:xfrm>
        </p:grpSpPr>
        <p:sp>
          <p:nvSpPr>
            <p:cNvPr id="189" name=""/>
            <p:cNvSpPr/>
            <p:nvPr/>
          </p:nvSpPr>
          <p:spPr>
            <a:xfrm flipV="1">
              <a:off x="197964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7964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0" y="4140360"/>
            <a:ext cx="357120" cy="357120"/>
            <a:chOff x="3240000" y="4140360"/>
            <a:chExt cx="357120" cy="357120"/>
          </a:xfrm>
        </p:grpSpPr>
        <p:sp>
          <p:nvSpPr>
            <p:cNvPr id="205" name=""/>
            <p:cNvSpPr/>
            <p:nvPr/>
          </p:nvSpPr>
          <p:spPr>
            <a:xfrm flipV="1">
              <a:off x="324000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00360" y="3600360"/>
            <a:ext cx="357120" cy="357120"/>
            <a:chOff x="3600360" y="3600360"/>
            <a:chExt cx="357120" cy="357120"/>
          </a:xfrm>
        </p:grpSpPr>
        <p:sp>
          <p:nvSpPr>
            <p:cNvPr id="208" name=""/>
            <p:cNvSpPr/>
            <p:nvPr/>
          </p:nvSpPr>
          <p:spPr>
            <a:xfrm flipV="1">
              <a:off x="3600360" y="360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0360" y="360468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859280" y="3419640"/>
            <a:ext cx="357120" cy="357120"/>
            <a:chOff x="4859280" y="3419640"/>
            <a:chExt cx="357120" cy="357120"/>
          </a:xfrm>
        </p:grpSpPr>
        <p:sp>
          <p:nvSpPr>
            <p:cNvPr id="211" name=""/>
            <p:cNvSpPr/>
            <p:nvPr/>
          </p:nvSpPr>
          <p:spPr>
            <a:xfrm flipV="1">
              <a:off x="4859280" y="341964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9280" y="342252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440000" y="1076040"/>
            <a:ext cx="179280" cy="369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60720" y="1800360"/>
            <a:ext cx="357120" cy="357120"/>
            <a:chOff x="2160720" y="1800360"/>
            <a:chExt cx="357120" cy="357120"/>
          </a:xfrm>
        </p:grpSpPr>
        <p:sp>
          <p:nvSpPr>
            <p:cNvPr id="223" name=""/>
            <p:cNvSpPr/>
            <p:nvPr/>
          </p:nvSpPr>
          <p:spPr>
            <a:xfrm flipV="1">
              <a:off x="2160720" y="180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60720" y="180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600360"/>
            <a:ext cx="72072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5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79640" y="4859280"/>
            <a:ext cx="357120" cy="357120"/>
            <a:chOff x="1979640" y="4859280"/>
            <a:chExt cx="357120" cy="357120"/>
          </a:xfrm>
        </p:grpSpPr>
        <p:sp>
          <p:nvSpPr>
            <p:cNvPr id="86" name=""/>
            <p:cNvSpPr/>
            <p:nvPr/>
          </p:nvSpPr>
          <p:spPr>
            <a:xfrm flipV="1">
              <a:off x="1979640" y="485928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9640" y="486216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9640" y="3059280"/>
            <a:ext cx="36036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700360" y="5219640"/>
            <a:ext cx="357120" cy="357120"/>
            <a:chOff x="2700360" y="5219640"/>
            <a:chExt cx="357120" cy="357120"/>
          </a:xfrm>
        </p:grpSpPr>
        <p:sp>
          <p:nvSpPr>
            <p:cNvPr id="121" name=""/>
            <p:cNvSpPr/>
            <p:nvPr/>
          </p:nvSpPr>
          <p:spPr>
            <a:xfrm flipV="1">
              <a:off x="2700360" y="521964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00360" y="522252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59280" y="4680000"/>
            <a:ext cx="357120" cy="357120"/>
            <a:chOff x="3959280" y="4680000"/>
            <a:chExt cx="357120" cy="357120"/>
          </a:xfrm>
        </p:grpSpPr>
        <p:sp>
          <p:nvSpPr>
            <p:cNvPr id="124" name=""/>
            <p:cNvSpPr/>
            <p:nvPr/>
          </p:nvSpPr>
          <p:spPr>
            <a:xfrm flipV="1">
              <a:off x="3959280" y="468000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9280" y="4682880"/>
              <a:ext cx="357120" cy="35100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859280" y="4140360"/>
            <a:ext cx="357120" cy="357120"/>
            <a:chOff x="4859280" y="4140360"/>
            <a:chExt cx="357120" cy="357120"/>
          </a:xfrm>
        </p:grpSpPr>
        <p:sp>
          <p:nvSpPr>
            <p:cNvPr id="127" name=""/>
            <p:cNvSpPr/>
            <p:nvPr/>
          </p:nvSpPr>
          <p:spPr>
            <a:xfrm flipV="1">
              <a:off x="4859280" y="4140360"/>
              <a:ext cx="357120" cy="35712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9280" y="4143240"/>
              <a:ext cx="357120" cy="350640"/>
            </a:xfrm>
            <a:prstGeom prst="line">
              <a:avLst/>
            </a:prstGeom>
            <a:ln w="36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79640" y="1616040"/>
            <a:ext cx="179280" cy="549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