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B4D-2DFB-474B-BC4C-1C4665CE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284-29B1-482C-AE58-27F583F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260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673-002D-4668-9AB7-2D910D06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80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4320" y="151596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80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4320" y="3745080"/>
            <a:ext cx="281340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827-A305-4688-A071-B4BDD6D1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5BE-C9D4-4D6C-8A14-8A84E03A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788-E91B-4D0A-9D49-FF96395D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DAD-6931-45C7-9844-6769BB20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224-EDBD-454A-8A86-3554C0CA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37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BCF-FC68-40BE-9654-BEE715D5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FDF-712D-4A10-9AFE-10E22D11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2600" y="374508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F2C-131C-4978-BDDB-938857A1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2600" y="1515960"/>
            <a:ext cx="426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375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51E-52A2-4F84-88BF-5F346743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3756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960"/>
            <a:ext cx="8737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5432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188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39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BCC22-42B7-41CE-BD3C-DFDFE396FD6F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19840" y="3824280"/>
            <a:ext cx="56340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079640" y="1611360"/>
            <a:ext cx="179280" cy="558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19840" y="3824280"/>
            <a:ext cx="56340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0000" y="4319640"/>
            <a:ext cx="107928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3060720"/>
            <a:ext cx="1260360" cy="161928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798200" y="1079640"/>
            <a:ext cx="90324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